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2BD-E694-4A6B-8251-0260902F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43D-1CB8-46C8-AE88-B4687750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E5F-AD9D-4FED-B08E-98CEB2C6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08D-8E05-44E2-BA26-3FF914FD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0E40-5AD1-45EF-A67A-A6A9EE28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F737-825B-4D03-9747-1C328F8B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BE3A-225D-4018-B029-BC8D7CA1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CA6F-B972-4EC8-827E-4DC9DFC3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FAE8-759B-4BF4-9E63-B4E61FEE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C24E-371F-4DC7-A210-09ECE90C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BE64-4783-43FF-86EF-B5321DB4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8D6-09A4-4EFD-B89D-5E3A645E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9E78-1E84-42EF-B55B-76BE2584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657E-5148-44BA-8349-EB8104FD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2584-A89E-4B3E-9D13-A13BC61A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BDD5-6F6D-433F-9426-CA0690C1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6D77-FE10-4FE0-8EE6-88C1E0D9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510-F2F9-4857-B407-DE0914E7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002-8CF7-4570-A10F-CC55BDF5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023-0228-4FDD-A825-83233C37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750-56B7-4CCD-B868-7439059F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655-97BC-49BC-BAFA-AD9034ED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C9B-E33C-473A-9DCB-C6231828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26F-5B68-472A-B454-5FB00C7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03BE-E5D8-4687-B995-A9A43E6FC13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DD88-A051-40A0-982C-8BC9AF0764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doriani@springboro.org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elcome to Third Grade!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 Oriani’s C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m 22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ain a big jum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ependent Reading (does not come home unless our schedule is tigh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swering Questions – please look at the answering questions p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ho-what-where-when-why circle, Answering A Question, and 2,3,4 part Question Answer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ARIZING!! (refer to summary pag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CABULAR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343400" y="4952880"/>
            <a:ext cx="274320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/Writing Worksho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tension of Reading and Wr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ent Ch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 to back wall to walk through with 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705720" y="51055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76212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ividualized Spelling L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one has the same pre-t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their missed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heir own words from prior missed spelling test words or they pick words that match our weekly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CHECK their SPELLING WORDS for proper spel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121932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ekly Skill Packet Done At Scho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ing/Language Arts Sk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mar Sk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lling Sk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ce/Social Studies Weekly Prompt answered 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e every Thursday of the wee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review togeth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ekly Grammar quiz and Spelling T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62940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pic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-4 Detail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ding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gin multi-paragraph wr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y Writing again is a big concept in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rad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24019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ginning –practice adding and subtracting ski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 Reference Boo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 in the beginning, but picks up by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quar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FACTS will be an important part of Math (if your student has mastered adding and subtracting begin multiplication ASA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8334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ook Club, Math Group, and One on One Tu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help better students knowledge of the concepts learned within class I will offer monthly Book Clubs as well as unit Math Group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h Group –Monday’s from 3:30-4: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ok Club – Thursday from 3:30-4: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on One tutoring Mon., Tues., Wed., and Thurs mornings 7:15-8:15 also Tues. and Wed. afternoons from 3:30-4: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sign up at anytime there is a session offe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20 per child for EACH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do Book Club and Math Group it is $15 per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on One tutoring – if you notice a big struggle in any area - $30 per se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9480" cy="1219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010280" y="5181480"/>
            <a:ext cx="12733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ience Extension Group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r child LOVES Science I would like to start a Science Extension Grou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ter School – one day a wee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15.00 a child each s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jects with students all over the world through the internet!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tras Needed For Class That Should Be Here By Now?!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inch bin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nder divi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k of White Unlined Note C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oll of masking tape to hang pro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Subject Notebook – College Li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tudies/Science/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nteer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 went home in the IMPORTANT PAPERS ENVELO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are interested in volunteering please make sure to fill out that form and I will be in tou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need to be finger printed – if you were last year that is still go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ORTANT PAPERS DUE September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o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Grade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g Jum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Expectation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cipation vs.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ss Homewor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ependenc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6294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nation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nde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y Erase Mark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uorescent Note Cards for 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spapers/Magazines with Grap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otch Ta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manent Mark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ging File Fol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cting 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feel free to contact me at ANY tim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available through email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doriani@springboro.or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check throughout the day and every night before I go to be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rned and want a conference anytime throughout the year, again please contact me and we can set a date and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Goal Together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re here to work together for the success of your child in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rade, so let’s have a great year together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124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missal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Riders – Walkers – Car Rid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 Riders – Parents will have to come in and pick up their chil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 Poolers need to send in no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Riders may go home with other bus rid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s will be accepted through the office until 1:30 – NO LAT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transportation information NEEDS to go through Jennifer Austin – not 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ning Work Responsi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get the ? – Big Part is Explaining Work in Words – OAT requi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ily Geography +weekly quizz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ily Science +weekly quizz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ntastic Five +bi-weekly quizz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ce/Social Studies weekly writing prompt – OAT Requi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mmar Work – Please work at home on Nouns, Verbs, Adjectives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homework is forgotten – the first and second time the student conferences with teac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time conferences with teacher and princip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time stays after school with the principal to make up the assignment that day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s over each quar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.T.A.R.S Binde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keep everyone organiz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look at the binder on your child’s des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als Is VERY different this y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rotate on an A-B-C schedu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edule should be located in the S.T.A.R.S Bind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ay = 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Day = Gym – always wear gym sho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Day = Mus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havior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thly Char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mbers to represent behavior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eds to be sig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udent Recognition Program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bed to you in the bin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25:11Z</dcterms:created>
  <dc:creator>doriani</dc:creator>
  <dc:description/>
  <dc:language>en-US</dc:language>
  <cp:lastModifiedBy>doriani</cp:lastModifiedBy>
  <dcterms:modified xsi:type="dcterms:W3CDTF">2009-08-21T19:26:20Z</dcterms:modified>
  <cp:revision>17</cp:revision>
  <dc:subject/>
  <dc:title>Welcome to Third Grade!</dc:title>
</cp:coreProperties>
</file>